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34D6-C4C6-4EEF-9B84-B1ECFA27A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389F-1610-456A-8428-04A0E9B4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AA40-63DB-4A68-A5AC-33B70FCC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47E6-5414-418C-9D18-92C9F6FE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81A5-E687-4BEE-9903-6C15C3E94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3E27-4047-4FD1-B83E-8752DDC6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60D7-FE1F-4EF7-8368-C2FD50BA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92F9-CB69-4535-B028-2DC22090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B134-6693-4D2C-973F-F8567015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FAB3-5E42-4A91-87EB-4792832C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FAE5-5327-4AF7-8844-F4BB610F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9F65-1740-4064-8D8C-09C4A271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8FD3-759A-47CE-A4BE-5B9EDA5B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14D4-E9AB-44DD-ACAA-16890B81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BA5D-E207-4431-BBA9-15C3884C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714A-0C2B-41E3-BB00-4C9DF6B9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1EC7-8656-4799-8D13-5AC23FE49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055B-746F-44AB-99C3-84A77EFF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950F-3728-438F-84EF-80F26160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DFAC-B7BE-49C1-B016-F8E01ECD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4627-1C2B-46B0-8765-D6E63AA2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FD7A-5C22-49C2-BB4C-02E19E16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2C78-868D-4D01-83FC-D77A48F5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5608-3DE6-4783-91B2-8059FED3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D85E-719A-43D0-AC99-3173AD55325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8CB9-1B13-48EB-B137-B5EE45484E7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Give Us A K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rter 5, Lesson 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 Samuel 19:41-21:1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ges 94-9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5616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533840" y="152280"/>
            <a:ext cx="4610160" cy="2943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flipH="1">
            <a:off x="2133360" y="1066680"/>
            <a:ext cx="4800600" cy="4038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533840" y="3124080"/>
            <a:ext cx="4610160" cy="2943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648320" y="609588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In these sketches, the buildings are scraped off the rock. Notice the area in the next slide WITH build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28600" y="4680"/>
            <a:ext cx="8763120" cy="6789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324480" y="609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avid’s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019560" y="1219320"/>
            <a:ext cx="60948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457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ater, The T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bellion of Sheb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96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ention between the men of Judah and the men of Israel about bringing back the king, v. 19:41-4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heba rebels against David, v. 20:1-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vid returned to Jerusalem, v. 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te of the ten concubines left in the c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heba Pursue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masa is sent to assemble the men of Judah, v. 4-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d in the meantime, Abishai sent to pursue after Sheba, v. 20:6-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ab kills Amasa, v. 8-1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masa’s body pulled off the ro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heba’s head in exchange for Abel of Beth-maacah, v. 14-2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heba Slai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6629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heba fled to Abel of Beth-maacah, v. 14-15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wise woman negotiates with Joab, v. 16-1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heba’s head in exchange for Abel, v. 20-2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vid reorganized his officers,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. 23-2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ighting Some Wrong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ason for 3-year famine, v. 21: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rong to Gibeonites avenged, v. 2-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d 7 sons of Sau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phibosheth spared due to oat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ul’s other 2 sons and 7 grandsons offered to the Gibeonites and hang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ones of Saul &amp; Jonathan buried with the seven, v. 10-1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d’s justice was satisfied, v. 14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22:31:44Z</dcterms:created>
  <dc:creator>Terry W. Benton</dc:creator>
  <dc:description/>
  <dc:language>en-US</dc:language>
  <cp:lastModifiedBy>Don Vines</cp:lastModifiedBy>
  <dcterms:modified xsi:type="dcterms:W3CDTF">2005-04-16T01:04:58Z</dcterms:modified>
  <cp:revision>6</cp:revision>
  <dc:subject/>
  <dc:title>Give Us A King</dc:title>
</cp:coreProperties>
</file>